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623-11F6-42D2-94B3-F65F7BAC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A7DE-EF67-4D47-B6ED-20C45688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B913-E735-4266-A3F4-42950146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837B-0677-440D-A50A-9C1FF301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520" y="274320"/>
            <a:ext cx="8534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88D-E753-4AFC-9F10-2AD7D9AC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E44-1C0D-47E6-9463-5942C0AF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A14-721D-4F60-91F1-1C8982B8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107-1EDD-4D22-9262-DF59C2D3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274320"/>
            <a:ext cx="8534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FB7A-C516-49C5-9042-22136A5D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61D-F4E5-4CC5-AFBA-84B4EF71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480-12C2-43CF-AC4D-7F5EDA53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DC6D-818D-43E6-A0C6-13A121A2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j0386306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15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62320" y="655272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5C67-D831-4590-945F-A738B77F95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j0386306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156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426708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atabase Concept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vie Rental Databa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1600200"/>
          <a:ext cx="8534520" cy="271620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Wyatt – 123 XYZ Street – Conan the Barbarian – due 12 June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Wyatt – 123 XYZ Street – Star Wars – due 14 June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a Wyatt – 123 XYZ Street – Twilight – due 18 June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21"/>
          <p:cNvSpPr/>
          <p:nvPr/>
        </p:nvSpPr>
        <p:spPr>
          <a:xfrm>
            <a:off x="762120" y="4572000"/>
            <a:ext cx="7010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’s contact information and movie rental information is all contained in a single 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rentals require duplicating the Customer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fields (like Address) have to be parsed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vie Rental Databa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0880" y="1600200"/>
          <a:ext cx="8534520" cy="362124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Wyatt – 123 XYZ Street – Conan the Barbarian – due 12 June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Wyatt – 123 XYZ Street – Star Wars – due 14 June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a Wyatt – 123 XYZ Street – Twilight – due 18 June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Blaise – 789 Main Street – Star Wars – due 20 June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8"/>
          <p:cNvSpPr/>
          <p:nvPr/>
        </p:nvSpPr>
        <p:spPr>
          <a:xfrm>
            <a:off x="1600200" y="5410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John Blaise just rented a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9"/>
          <p:cNvSpPr/>
          <p:nvPr/>
        </p:nvSpPr>
        <p:spPr>
          <a:xfrm flipH="1" flipV="1">
            <a:off x="990360" y="487656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vie Rental Databa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80880" y="1600200"/>
          <a:ext cx="8534520" cy="327672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Wyatt – 123 XYZ Street – Conan the Barbarian – due 12 June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Wyatt – 123 XYZ Street – Star Wars – due 14 June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a Wyatt – 123 XYZ Street – Twilight – due 18 June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 Wyatt – 1233 XYYZ Street – Martians Go Home – due 21 June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18"/>
          <p:cNvSpPr/>
          <p:nvPr/>
        </p:nvSpPr>
        <p:spPr>
          <a:xfrm>
            <a:off x="685800" y="4952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elete Anomaly – John Blaise returned movie: All info for John Blaise is g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nsertion Anomaly – I cannot insert anyone’s information until they first rent a movi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Update Anomaly – Anna Wyatt information is different in different field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0"/>
          <p:cNvSpPr/>
          <p:nvPr/>
        </p:nvSpPr>
        <p:spPr>
          <a:xfrm>
            <a:off x="304920" y="3886200"/>
            <a:ext cx="36576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3733920" y="34686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nomaly! Name spelled differently in different row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2"/>
          <p:cNvSpPr/>
          <p:nvPr/>
        </p:nvSpPr>
        <p:spPr>
          <a:xfrm flipH="1">
            <a:off x="3276360" y="388620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l For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mal Forms help to resolve problems with relational databa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 the kind of problems that can occur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had to parse contact and movie inform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uld have anomalies with the dat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80880" y="1143000"/>
          <a:ext cx="8534520" cy="352440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XYZ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an the Barbar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XYZ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ans Go H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9 Main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an the Barbar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 We Moved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dzilla 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Text Box 37"/>
          <p:cNvSpPr/>
          <p:nvPr/>
        </p:nvSpPr>
        <p:spPr>
          <a:xfrm>
            <a:off x="533520" y="4724280"/>
            <a:ext cx="81532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attribute has only atomic values, and the values of each attribute contains only a single value from that dom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What is the key to uniquely identify each row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Do I need the whole key to identify the address?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If John Wyatt rents another movie, how to tell the correct addre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0"/>
          <p:cNvSpPr/>
          <p:nvPr/>
        </p:nvSpPr>
        <p:spPr>
          <a:xfrm>
            <a:off x="3581280" y="3733920"/>
            <a:ext cx="1905120" cy="99036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143000"/>
          <a:ext cx="8534520" cy="347328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XYZ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an the Barbar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XYZ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ans Go H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9 Main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an the Barbar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 We Moved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dzilla 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 We Moved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Hob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41"/>
          <p:cNvSpPr/>
          <p:nvPr/>
        </p:nvSpPr>
        <p:spPr>
          <a:xfrm>
            <a:off x="533520" y="4724280"/>
            <a:ext cx="81532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NF: Each attribute has only atomic values, and the values of each attribute contains only a single value from that dom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Is Due Date or Movie really related to my name?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What is the correct address for John Wyatt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int: can I assume that the most recent rental date has the current address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2"/>
          <p:cNvSpPr/>
          <p:nvPr/>
        </p:nvSpPr>
        <p:spPr>
          <a:xfrm>
            <a:off x="3581280" y="3276720"/>
            <a:ext cx="1905120" cy="144756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80880" y="1143000"/>
          <a:ext cx="8305920" cy="3548160"/>
        </p:xfrm>
        <a:graphic>
          <a:graphicData uri="http://schemas.openxmlformats.org/drawingml/2006/table">
            <a:tbl>
              <a:tblPr/>
              <a:tblGrid>
                <a:gridCol w="1384560"/>
                <a:gridCol w="1384200"/>
                <a:gridCol w="1650960"/>
                <a:gridCol w="685800"/>
                <a:gridCol w="1816200"/>
                <a:gridCol w="1384200"/>
              </a:tblGrid>
              <a:tr h="56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 We Moved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an the Barbar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 We Moved Again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ans Go H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9 Main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an the Barbar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dzilla 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Hob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41"/>
          <p:cNvSpPr/>
          <p:nvPr/>
        </p:nvSpPr>
        <p:spPr>
          <a:xfrm>
            <a:off x="533520" y="4724280"/>
            <a:ext cx="8153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must be in First Normal Form (1NF), AN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its nonkey attributes are dependant on the primary key (example, movie title is not related to my nam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What is the key to uniquely identify each row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Do I need the whole key to know the address? The movies rented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Can I add a customer before they rent a movie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4"/>
          <p:cNvSpPr/>
          <p:nvPr/>
        </p:nvSpPr>
        <p:spPr>
          <a:xfrm>
            <a:off x="4572000" y="2057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5"/>
          <p:cNvSpPr/>
          <p:nvPr/>
        </p:nvSpPr>
        <p:spPr>
          <a:xfrm>
            <a:off x="4495680" y="2133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6"/>
          <p:cNvSpPr/>
          <p:nvPr/>
        </p:nvSpPr>
        <p:spPr>
          <a:xfrm>
            <a:off x="4495680" y="2133720"/>
            <a:ext cx="99072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7"/>
          <p:cNvSpPr/>
          <p:nvPr/>
        </p:nvSpPr>
        <p:spPr>
          <a:xfrm>
            <a:off x="4572000" y="3124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8"/>
          <p:cNvSpPr/>
          <p:nvPr/>
        </p:nvSpPr>
        <p:spPr>
          <a:xfrm>
            <a:off x="4800600" y="2514600"/>
            <a:ext cx="8380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95880" cy="12189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838080" y="3429000"/>
            <a:ext cx="693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only one entry for each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only one entry for each Mov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Customer can rent Many Movies. 1:M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ransitive Depend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nonkey columns must be dependent on a candidate ke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interdependences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d 2NF 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 is linked to a Book, and a Book is linked to a Publisher 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ransit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pend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00200" y="4038480"/>
          <a:ext cx="6095880" cy="3715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s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80880" y="1143000"/>
          <a:ext cx="8153640" cy="3548160"/>
        </p:xfrm>
        <a:graphic>
          <a:graphicData uri="http://schemas.openxmlformats.org/drawingml/2006/table">
            <a:tbl>
              <a:tblPr/>
              <a:tblGrid>
                <a:gridCol w="449280"/>
                <a:gridCol w="1346400"/>
                <a:gridCol w="1282680"/>
                <a:gridCol w="1805040"/>
                <a:gridCol w="577800"/>
                <a:gridCol w="1527120"/>
                <a:gridCol w="1165320"/>
              </a:tblGrid>
              <a:tr h="568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 We Moved Again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an the Barbar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ans Go H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9 Main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an the Barbar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dzilla 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Hob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63"/>
          <p:cNvSpPr/>
          <p:nvPr/>
        </p:nvSpPr>
        <p:spPr>
          <a:xfrm>
            <a:off x="533520" y="4724280"/>
            <a:ext cx="81532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must be in Second Normal Form (2NF) AND no Transitive dependen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What is the key to uniquely identify each row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Do I need the whole key to know the address? The movies rented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Can I add a customer before they rent a movie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How can I tell the correct addre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4"/>
          <p:cNvSpPr/>
          <p:nvPr/>
        </p:nvSpPr>
        <p:spPr>
          <a:xfrm>
            <a:off x="495288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5"/>
          <p:cNvSpPr/>
          <p:nvPr/>
        </p:nvSpPr>
        <p:spPr>
          <a:xfrm>
            <a:off x="4952880" y="2133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6"/>
          <p:cNvSpPr/>
          <p:nvPr/>
        </p:nvSpPr>
        <p:spPr>
          <a:xfrm>
            <a:off x="4952880" y="2209680"/>
            <a:ext cx="83844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7"/>
          <p:cNvSpPr/>
          <p:nvPr/>
        </p:nvSpPr>
        <p:spPr>
          <a:xfrm>
            <a:off x="5029200" y="3124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8"/>
          <p:cNvSpPr/>
          <p:nvPr/>
        </p:nvSpPr>
        <p:spPr>
          <a:xfrm>
            <a:off x="4952880" y="2133720"/>
            <a:ext cx="7621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Databa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 down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 down, but allowing cross connec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s &amp;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 (tables) and relation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yce-Codd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student can be in many cla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teacher can teach many cla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 class may have multiple teach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 What is dependant on wha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SID, Class}? {SID, Teacher}? {Class, Teacher}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19"/>
          <p:cNvGraphicFramePr/>
          <p:nvPr/>
        </p:nvGraphicFramePr>
        <p:xfrm>
          <a:off x="1066680" y="3505320"/>
          <a:ext cx="6782040" cy="25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505320"/>
                    <a:ext cx="678204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yce-Codd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a Many-to-Many relationship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one table for each strong entity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1"/>
          <p:cNvSpPr/>
          <p:nvPr/>
        </p:nvSpPr>
        <p:spPr>
          <a:xfrm>
            <a:off x="685800" y="4648320"/>
            <a:ext cx="81532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must be in Third Normal Form (3NF), and EVERY determinant can be a 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Is Class dependant on Student ID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Is Teacher dependant on the Cla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10"/>
          <p:cNvGraphicFramePr/>
          <p:nvPr/>
        </p:nvGraphicFramePr>
        <p:xfrm>
          <a:off x="762120" y="2590920"/>
          <a:ext cx="784836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90920"/>
                    <a:ext cx="784836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yce-Codd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676520" y="1585800"/>
            <a:ext cx="544968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urth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 determines Maj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 also determines Club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fore, Major x Clubs = rows for each SID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7"/>
          <p:cNvGraphicFramePr/>
          <p:nvPr/>
        </p:nvGraphicFramePr>
        <p:xfrm>
          <a:off x="1676520" y="2971800"/>
          <a:ext cx="5029200" cy="25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971800"/>
                    <a:ext cx="502920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urth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value determinants are now a many-to-many relationship between two entiti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1"/>
          <p:cNvSpPr/>
          <p:nvPr/>
        </p:nvSpPr>
        <p:spPr>
          <a:xfrm>
            <a:off x="685800" y="492120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must be in Boyce-Codd Normal Form (BCNF), and no multi-value determina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7"/>
          <p:cNvGraphicFramePr/>
          <p:nvPr/>
        </p:nvGraphicFramePr>
        <p:xfrm>
          <a:off x="685800" y="2894040"/>
          <a:ext cx="7543800" cy="16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94040"/>
                    <a:ext cx="7543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urth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742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fth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a few cases there may be some obscure dependencies. For exampl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 may also depend on teacher’s vacation schedu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es available may depend on dat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lass might require at least 3 students, else it is cancell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t be in 4NF, and resolve any additional obscure dependenci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main/Key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 possible constraint on a relation is a direct consequence of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finition of the Key,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finition of each attribute’s domai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, two field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erature [INT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 [INT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two values can be added, but the result is meaningle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main/Key Normal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main constraint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erature [TEMPTYPE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 [AGETYPE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two values can no longer be add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DBMS is capable of supporting DKNF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nstraints of 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F and DKNF are generally managed by the program’s business logic (code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of Anomal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143000"/>
          <a:ext cx="8534520" cy="347328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XYZ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an the Barbar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XYZ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ans Go H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9 Main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an the Barbar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 We Moved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dzilla 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 We Moved 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Hob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June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Oval 48"/>
          <p:cNvSpPr/>
          <p:nvPr/>
        </p:nvSpPr>
        <p:spPr>
          <a:xfrm>
            <a:off x="3581280" y="3276720"/>
            <a:ext cx="1905120" cy="144756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9"/>
          <p:cNvSpPr/>
          <p:nvPr/>
        </p:nvSpPr>
        <p:spPr>
          <a:xfrm>
            <a:off x="167652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Update Anom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0"/>
          <p:cNvSpPr/>
          <p:nvPr/>
        </p:nvSpPr>
        <p:spPr>
          <a:xfrm>
            <a:off x="380880" y="464832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ion Anomaly: If I delete the movie rental for John Blaise, I also delete all of his contact inform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Anomaly: Duplicate data: I only changed the address in one of the r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Anomaly: I cannot add a customer until they first rent a mov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Hierarchical Mod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320px-Hierarchical_Model_svg.png"/>
          <p:cNvPicPr/>
          <p:nvPr/>
        </p:nvPicPr>
        <p:blipFill>
          <a:blip r:embed="rId1"/>
          <a:stretch/>
        </p:blipFill>
        <p:spPr>
          <a:xfrm>
            <a:off x="1447920" y="1219320"/>
            <a:ext cx="6095880" cy="3485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838080" y="510552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only have one root 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only have 1:M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only connect upward/downward to parent/child no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s to the Kingdo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0520" y="16002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“Key” is the column(s) whose data is used to uniquely identify the row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38080" y="2819520"/>
          <a:ext cx="7467840" cy="2396880"/>
        </p:xfrm>
        <a:graphic>
          <a:graphicData uri="http://schemas.openxmlformats.org/drawingml/2006/table">
            <a:tbl>
              <a:tblPr/>
              <a:tblGrid>
                <a:gridCol w="1866960"/>
                <a:gridCol w="1866960"/>
                <a:gridCol w="1866960"/>
                <a:gridCol w="186696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a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Over 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-456-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g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 End, Bagshot Row, Hobbi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 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3-333-4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 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3-333-4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86" name="TextBox 4"/>
          <p:cNvSpPr/>
          <p:nvPr/>
        </p:nvSpPr>
        <p:spPr>
          <a:xfrm>
            <a:off x="838080" y="53341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olumn or columns could be used to uniquely identify these row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Key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52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 column(s) that can guarantee uniqueness is called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didate ke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‘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osi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 or ‘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catenat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 key is a special type of candidate key that is formed by a combination of two or more columns. E.g. {first name, last nam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ary K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candidate key that you have selected to be the unique identifi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.F. Codd’s Rul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F. Codd is the originator of the relational database mode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d’s original design has undergone additions and minor modifications, but his 12 Rules still form the core of all RDBMS’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 1: The Information Ru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information in a relational database is represented at the logical level in exactly one way – by values in tables (relations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requires that two-dimensional tables (rows and columns) be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ructure used in a relational databas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minates some of the controversy of “who cares about rules if my product works.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 2: Guarenteed Acces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and every datum (atomic value) in a relational database is guaranteed to be logically accessible by resorting to a combination of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Key val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umn 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 3: Consistency of Nul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ll values are missing values (not just blanks or empty strings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ll values are supported for representing missing information in a systemic way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ependent of data typ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le 4: Consistent Data Acce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atabase description is represented at the logical level in the same way as ordinary dat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can apply the same relational language as they apply to regular dat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only need to learn one query language – regardless of the data typ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le 5: Comprehensive Langu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must be at least one language whose statements are expressed as character strings, supporting all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defin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 defin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manip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ity constra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 bounda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 6: View Updat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iews that are theoretically updateable are also updatable by the system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view contains information that can be updated back into the database, the system will be able to handle the updat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tially, if I can read the data, I can also update i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 7: Insert, Update, Dele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ystem will have the ability to Insert, Update, or Delete multiple rows in a single transac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need to perform separate operations for each row being proces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Network Mod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320px-Network_Model_svg.png"/>
          <p:cNvPicPr/>
          <p:nvPr/>
        </p:nvPicPr>
        <p:blipFill>
          <a:blip r:embed="rId1"/>
          <a:stretch/>
        </p:blipFill>
        <p:spPr>
          <a:xfrm>
            <a:off x="1828800" y="914400"/>
            <a:ext cx="5494320" cy="434340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685800" y="541008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Hierarchical, but can create networks to make M:N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2"/>
          <p:cNvCxnSpPr>
            <a:stCxn id="89" idx="0"/>
          </p:cNvCxnSpPr>
          <p:nvPr/>
        </p:nvCxnSpPr>
        <p:spPr>
          <a:xfrm flipV="1">
            <a:off x="4647960" y="4342680"/>
            <a:ext cx="1080" cy="10674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les 8 &amp; 9: Data Independ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 and terminals that access the data are unaffected whenever any changes are made to how the RDBMS internally stores or accesses the dat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 and terminals that access the data are unaffected whenever new tables are added to the databas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ables are deleted, it does not affect access to remaining tabl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le 10: Integrity Independ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ity constraints specific to a particular relational database must be definable in the relational sublanguage – not in the application program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a minimum, constraints includ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component of a primary key can be Nu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each foreign key value in a row, there must exist a matching primary key value from the same domain (referential integrit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le 11: Distribution Independ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distributed database is one where the data itself is stored on more than one computer, possibly in separate geographical locat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etheless, to the application, this distribution will be invisible; the application is independent of the database distibu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 12: Nonsubver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RDBMS has a low-level language, that low-level language CANNOT be used to subvert or bypass the integrity rules or constraints expressed in the higher level languag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: Structured Query Language (SQL) is currently the standard high level langua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ySQL Too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SQL Monitor is a command-line too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using the PuTTY tool to get to the command-line at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sandbox.coleman.ed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PMyAdmin is a web-based too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using a web browser by connecting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s://linuxsandbox.coleman.edu/phpmyadmin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Object Mod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320px-Object-Oriented_Model_svg.png"/>
          <p:cNvPicPr/>
          <p:nvPr/>
        </p:nvPicPr>
        <p:blipFill>
          <a:blip r:embed="rId1"/>
          <a:stretch/>
        </p:blipFill>
        <p:spPr>
          <a:xfrm>
            <a:off x="1676520" y="990720"/>
            <a:ext cx="5790960" cy="428940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1143000" y="5257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erited objects of one class cannot connect with inherited objects of a different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Relational Mod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280px-Relational_Model_svg.png"/>
          <p:cNvPicPr/>
          <p:nvPr/>
        </p:nvPicPr>
        <p:blipFill>
          <a:blip r:embed="rId1"/>
          <a:stretch/>
        </p:blipFill>
        <p:spPr>
          <a:xfrm>
            <a:off x="2286000" y="990720"/>
            <a:ext cx="4572000" cy="453996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685800" y="5410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ies (Tables) contain Tuples (Row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ies relate to other Ent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ational Ter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520" y="1447560"/>
            <a:ext cx="8534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Table is an “Entity”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 Entity contain “Attributes” (or Columns)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ach data entry in a table is a “Tuple” (or Row)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ach tuple has the same Attribute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ach Tuple has unique data (the “Key”), to distinguish it from other tuple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bles relate to each other via “Relationships”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mantic Object Mod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294920"/>
            <a:ext cx="5029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way or representing data from a User’s viewpoi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t of the database model itself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Movie Rental Data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ustomer has information (Name, Contact Info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ustomer can rent zero, 1, or many movies (0 – 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20480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52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Use Cases for a Movie Rental database system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the data to be stor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20480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5T14:26:44Z</dcterms:created>
  <dc:creator>John Wyatt</dc:creator>
  <dc:description/>
  <dc:language>en-US</dc:language>
  <cp:lastModifiedBy>Wyatt, John</cp:lastModifiedBy>
  <dcterms:modified xsi:type="dcterms:W3CDTF">2014-08-05T15:37:13Z</dcterms:modified>
  <cp:revision>85</cp:revision>
  <dc:subject/>
  <dc:title>Database Concepts</dc:title>
</cp:coreProperties>
</file>